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867-296C-4DF0-8FFC-294AA470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C47-C220-4A3C-A2B7-7BF19662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E5C-AF87-4D90-8BAE-E00812A2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E09-6201-4565-AD16-1728909C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8844-E4F1-42A0-B52D-0F281729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48D-09A7-4CB3-B483-B3D4AB5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CC95-F86D-4081-B99B-24DBC858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3FA-5F37-42BA-9C44-95E1B84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6E81-4A67-4A29-A405-01664E5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A8B6-5CEB-48A4-8924-AAF943A1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361-720F-41E5-8582-1FADA99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303-C2B5-47CD-B4B7-376AD050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E3D3-3ECC-4467-8CFA-1907D59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72F0-F935-469C-AB4C-8616F31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9C8-1DFC-41FD-A0F8-BCAC1DA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8AD9-5869-407B-A8F6-EBAB66EB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996-196A-4C3B-852F-E86A0587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C48-A4CF-4CAB-BC47-DC4034F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1B1-A3FD-4E91-ABCE-DD9A6769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198-3A3A-49EA-9DB6-149D7CE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695-01F1-40F7-A1F4-ECB05D78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EF5-41C2-4ACB-843D-FB09D54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5B4-F787-4E15-BFB1-3C0E21A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721-7B36-4C16-850D-79478C4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F517-9FF8-4295-A61C-48929FBDF50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A66-D09C-4FEF-90A3-87A2B2156EF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0773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OS 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MÉTODOS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DE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ENSINO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886200"/>
            <a:ext cx="586728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BÂNEO, J. Carlos.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dática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rtez, 1994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Atividades especia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m os métodos de ensino com objetivo de assimilação dos conteúdos. Jornal escolar, Museu escolar, Teatro, Biblioteca escolar, estudo do mei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Estudo do meio não se limita só aos passeios, mas a todos os procedimentos que possibilitem a discussão e compreensão do cotidiano. São necessárias 3 fa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ejamento – o que observar? Que perguntas poderão ser feitas? (O professor deverá fazer conhecer o loc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ção – observar, anotar, conversar com as pesso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ação dos resultados e avaliação – relatório, redação, sistematização pelo professor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Conceito de método de ensino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É o caminho para atingir um objetivo, com os meios adequados; (investigação científica; assimilação do conhecimento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r o objeto de estudo nas suas propriedades e relações com outros objetos e fenômenos e sob vários ângul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ão ações, passos e procedimentos vinculados a reflexão, compreensão e transformação da realida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ão ações do professor pelas quais se organizam as atividades de ensino e dos alunos para atingir os objetiv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773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 escolha e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organização dos métod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8675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ve corresponder à necessária unidade objetivo-conteúdo-método. (um depende do outro para ter sucess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pendem dos conteúdos específic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 o conhecimento das características dos alunos quanto à capacidade de assimilação e quanto as suas características sócio-culturais e individuais; (ligação entre os objetivos e as condições de aprender do aluno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76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incípios básicos do ensi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 caráter científico e sistemático. (Ficar atento ao conteúdo científico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 compreensível e possível de ser assimilado. (Ver as condições dos alunos e ir dosando as dificuldades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gurar a relação conhecimento-prática. (Saber aplicar o conhecimento na sua vida prática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oiar-se na unidade ensino-aprendizagem. (Criar condições de ensino que resultem em aprendizagem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tir a solidez dos conhecimentos. (Recapitulação, fixação, etc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ar à vinculação trabalho coletivo – particularidades individuais. (Educar a todos, observando as diferenç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lassificação dos métod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1341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osição pelo profes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balho independ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aboração conjun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balho em gru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ividades especiai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Método de exposição pelo profess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 exposição, o professor deve mobilizar a atividade interna do aluno de concentrar-se e de pensar articulando com outros procediment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posição verb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sua função é explicar um assunto desconhecido. O professor deverá estimular sentimentos, instigar a curiosidade, relatar sugestivamente um fato, descrever com vivacidade uma situação real, fazer leitura expressiv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monstraçã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é a forma de representar fenômenos e processos reais (germinaçã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lustraçã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é uma forma de representar fatos e fenômenos reais através de gráficos, mapas, esquemas, gravuras, etc. (Requer dos alunos capacidade de concentração e observaçã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emplificaçã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é um meio de auxiliar a exposição verb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trabalho independent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ividades realizadas pelos alunos, dirigidas (estudo dirigido) e orientadas pelo profess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que esse método seja eficiente, o professor precis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ar tarefas claras e acessívei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ssegurar condições de trabalh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ompanhar de pert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proveitar o resultado para toda clas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elaboração conjunt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8388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ção entre alunos e professor. É a conversação, aula dialogada, com elaboração de perguntas que leve os alunos a reflex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étodo de trabalho em grup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b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s debatedores devem defender uma posi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hilips 6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6 grupos de 6 pessoas discutem uma questão e apresentam a conclus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mpestade m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screver no quadro o que vem em mente sobre determinado assunto, destacar o mais relevante e discut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upo de verbalizaçã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 grupo de observação (GV-GO)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a parte da turma forma um círculo para discutir o tema, outra parte fica em volta obser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minário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de ser exposição ou conversação sobre determinado assunto previamente estudado pelo gru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0:15:13Z</dcterms:created>
  <dc:creator>USUÁRIO - PT</dc:creator>
  <dc:description/>
  <dc:language>en-US</dc:language>
  <cp:lastModifiedBy>sistema</cp:lastModifiedBy>
  <dcterms:modified xsi:type="dcterms:W3CDTF">2010-07-15T20:01:44Z</dcterms:modified>
  <cp:revision>1</cp:revision>
  <dc:subject/>
  <dc:title>OS  MÉTODOS DE ENSINO</dc:title>
</cp:coreProperties>
</file>